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4"/>
          </p:nvPr>
        </p:nvSpPr>
        <p:spPr>
          <a:xfrm>
            <a:off x="399096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5"/>
          </p:nvPr>
        </p:nvSpPr>
        <p:spPr>
          <a:xfrm>
            <a:off x="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6"/>
          </p:nvPr>
        </p:nvSpPr>
        <p:spPr>
          <a:xfrm>
            <a:off x="399096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FC57-ECBF-493E-9CAB-2BB7236F7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37D5-FC14-4885-9CD8-E5FECA3742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0D51-332E-4C01-B8E0-D27525F3CE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BB0B-5267-4838-90C5-934A15903D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9D1E-99ED-484E-AE6D-936400A005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2A63-3ED7-47D4-A508-9F37E47E6C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0A8E-1D30-45A7-8F06-EA4C97DB21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683C-9FD6-4C91-8873-1A0F5CBE8A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E4BA-883E-49B3-9FA9-AB54357134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1BB8-CBB5-437A-A5D6-2AF9B4BC24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04FA-79E5-4A87-B814-91927FF5D4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3031-D30A-43FC-9136-7107584FF4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8A00-3047-4120-B994-514FC509C2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9D97-81CE-43A7-B3C0-86BC8B2BF5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367A-62F0-4FA1-8EBC-678ED4341E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99B5-BAFC-4DE9-A9A5-C60D89BE27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9FCC-59ED-4A32-B5F4-23D0256871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5E21-57B5-43D5-B1FA-D96E2E7FCE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5C03-3BDD-4128-ABA0-F3FF801D22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201C-A6C8-4F4D-B9C6-D192E6BBB8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F17-1A53-41F5-96F1-E19B835B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D7E-A321-43B3-9186-F17B5AD9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3E276-47A0-4783-9320-25F71CEA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EFC0B-FE60-4D27-990F-AEC4AA3E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D42EA-279C-4A13-B910-AD0F71B3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6A873-AADF-4548-9BE3-0F256388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4DD1F-AD13-4F0F-99FE-68924084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D47A4-B54E-4B1B-9105-CF047856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81293-9B58-45F4-9228-3BB8E225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46C4B-5FBA-4A97-BBE8-96BD9262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691AB-2839-4236-ACF3-FDC2C4E9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41217-A1F6-4341-A280-484A218C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6B1-92D2-4AF4-A0F3-7147D39B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1E489-4A52-4BC1-9DDB-BFB357F6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5C389-465E-4D92-8ECF-C0AD8963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4FBE5-58BC-4C4F-80D3-595900F3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C390D-D76E-41EE-84E2-BD60A6D1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C08D7-6065-41F2-BAA9-C2EB9F88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42C8E1-C705-4464-9329-B60E67F0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D5CD1-052A-43C9-A577-4875E562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0D3E7-0B7F-41A0-845D-5D7441AD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F66BE-BD31-46F9-A0F9-270CB89E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13E59-C1CB-41B4-BB1D-6E780E40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38E-5D4D-45C8-A9D1-8408FF7C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75F924-F59B-4159-B22E-BA022D4F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E81F2C-F14A-4186-A65A-D9B207C8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1B345C-6892-4207-96CF-A834B93B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502DF0-C1C0-41E6-9DF4-C7B6B8C6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EF3FDE-F017-461B-A176-4FA1C0AB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4E8CCE-F3FE-4DCB-B0DC-7EDC66D0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27CFE3-42F5-4121-A2A6-F20CE872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4E388C-C3A2-4D56-B0E4-D40A1EA9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28FFEB-BBC5-4EFB-9D0A-11C1F1D3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FE76C5-13BB-4262-9B18-B90F5AFE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BD5B-AA39-4F57-A849-401E4833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2CE250-6CF9-43F9-BFC3-093EDCA8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EA5E16-90B3-413A-A0E7-3D222219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BDBF1D-1D12-47F7-9613-7C17BB34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336C-8649-4FAF-BA45-0F0ACEE0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676B-514C-4763-92BE-8C0FE3DD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0E2A-4D82-471B-B723-6EA43B76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C12B-8B57-4939-A150-113DA4E7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1027-14C3-4DCF-877A-073F9D12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FC64-7B20-4945-B2BC-6B4B9443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ECC-A684-4DC7-8572-04A2F667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91E7-AFB6-4C76-A7CA-C0A7715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D752-0B1C-4A7C-BA83-5F01CB95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1726-6094-4DBB-977C-E7147098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17EC-50F7-4F97-8D51-C6F39248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F922-64BA-4017-B471-6A47332C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537F1-3BD5-4309-BF0D-BFBFFCE1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C2E3E-8DED-4B12-AD0C-5C9E6C4F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2B5BD-6616-4031-B38A-1F67681B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F494-E613-43DF-AE56-EC5F5F38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1F0D6-557F-45F8-8064-496B07C7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951-4DFD-47AE-9367-CCA30604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FF005-4138-4272-AD73-505A2647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6B72C-8004-46E5-BEFE-5E5D698F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6632-55DF-44D6-8F5D-F51F172B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6EE7-E945-434F-8F0F-F7A03F56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23264-ED3A-49A0-B5BB-12D360E4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69270-C29C-457C-AAE9-692EE5B4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52099-15B6-46B8-B93D-D718D0AF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DC812-8769-4A06-AF81-74D9690F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1D4C8-9529-446A-B0F2-3AE00BB8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605FB-F19A-43A3-A5F7-B4245A7A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894-219B-4EB8-828B-BA888E39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9AB03-262A-4525-BCBF-C643962B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D377B-D051-4835-9C99-8218F1D2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D6F72-B8FF-43D8-B163-5C36FBF4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81482-49CB-4B2F-A577-EECB7829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DDD4E-F94F-4A5D-95EE-7D99DB2A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47583-5C06-4386-8BEB-13F50245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004E-55C2-409C-8E77-FD567212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0F452-6986-4258-9C47-88DD2CC9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A71E3-C573-46F1-A3D5-814988E4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233FF-2FAE-47D4-8C8D-032F68FA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192-86BE-4D70-9B63-11BE2F9A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849E9-2371-4F89-8444-280959EC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48FB3-86BC-4E6C-89D0-FB5BC4C5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9B110-FDFE-4A91-9B79-E9DE2247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64736-8B34-4027-9864-22B97FAD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F2183-59FB-44DF-B0E7-C9F9DE99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EF78F-28E0-4D83-A2FB-C7DEE1FC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A46CC-3B95-4647-990A-E3F764AF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9CC3B-7BCA-4ED2-AFAD-702AD184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FB126-F29F-4088-804D-0FD2392F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A083D-2666-4B99-A5E3-8DFC13E8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568-241A-442B-BA3B-DDF53D58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FC4DC-5B90-47AC-97C6-7455D766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EE934-1336-4C10-9FB4-08B17297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31196-FF32-41B7-8F10-A35E0683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D2DC9-E0E6-41AA-93D2-A68DB88C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A646D-D658-4FC1-A9C6-371893E6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E55DA-10D7-41FB-8A30-2287BDE5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70DB8-6777-413B-B05F-3918D5A9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EA044-5245-40D4-9B5B-A3EA736E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50F98-D11C-4FA9-82E9-1F298FC1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918CF-C425-42FA-9DF5-7D84A654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2C2-DD98-4D2C-BB2F-6C6DF3E4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BC596-14E2-4466-9FE5-0685AB58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30ECC-D01A-47E0-B2CC-0D602113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B3647-B695-4B73-9331-D2AFA532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056BF-38DF-49CC-8E7C-B861C0BC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5527D-A778-491C-9FFA-28B776DC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BAEA9-8256-49A9-A691-1130CA3C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D1D80-8279-4E2F-A080-17ACF300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5D265-8FCD-405B-8282-FF9B757C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BC237-5B8E-45AC-A97F-F4202887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91FF5-E35C-4FB9-80DA-2A61136A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F54-CB7B-4FFD-BCDF-5DC220ED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40336-C790-413E-8584-38A24BD7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DF93A-20CD-4AC2-9FAE-B7F24F55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81866-1E6F-4AF0-90EB-351C57ED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6E485-731E-4F46-A17B-968D681B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2F153-2F14-4AD5-9E0F-09EDF5D6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34871-040E-42EA-9161-39A80EE0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D266E-A6DD-4818-959C-1FCA3A15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514C4-578A-4FAF-BEE4-B13C67ED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625AA-4C2E-40AA-87C1-783D4B49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66846-CE2E-44D7-888C-1D44367E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C20-A7EB-4001-B6AF-E47BCFDF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F56B1-1600-420E-ACCD-6C09C808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57943-C395-43C5-B472-065F0254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C6A4C-8ED0-4DA7-8862-C17B2901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146BA-EA71-4097-AE81-F031783F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17B89-D027-4E4F-BD46-17892EF1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DD620-FE82-4CEE-9F30-D17765F1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F8591-CFFA-40CC-B19D-A7BC1E2B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5FE63-2292-4D8D-8D5D-27D0B0BF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7E3F2-BEE6-4D1E-80FE-A26A9CCC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1DA51-0C8F-4A2A-B0EA-310CB09E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4AEA-602F-423E-8A65-33C85AFEA28E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018C-5815-4282-B004-7D1DFB3F85C6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7352-4EBD-4CD5-B59D-FC2DA3925635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833E-6A67-42D5-A16F-321D3C19BAF5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8A4D-3DA6-41AE-9618-7A75EB97B27B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0C12-3EBB-4093-868E-0C02E1E6BC88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3492-0A04-401E-B07D-781E3B331C41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BAAF-ECE3-4A56-AE59-5F317D144BF4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F546-6DC1-42B3-AC56-30F5E61F2BAB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7347-5F04-4E06-ABBC-DC5250316A5F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625C-7C7C-47A5-B8C6-6199C92E8EB3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5EAC-CA5E-4B34-84C0-2F6BB548BE23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DFB3-7114-4E9C-AB06-33D37346C657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5166-8F74-4D92-9B58-8664DBE6C42A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32C8-925E-4C4F-96BD-1DD6F6ED976A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F68C-C799-4D6B-AA19-F0B8D3EF203B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2732-5468-4971-8A34-A79AA2A25014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CD59-A2ED-4E67-B093-685CE88216E6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477F-BE57-4958-A599-42721503D01F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D799-945E-44E4-97FB-A3B20B79539E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6706-B5AC-44F4-93E7-6C93F61F1E95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6A0D-0E64-413E-AD83-C1A8C9F76386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33520" y="28191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  <a:ea typeface="Calibri"/>
              </a:rPr>
              <a:t>When Things Don’t Work:</a:t>
            </a:r>
            <a:br>
              <a:rPr sz="4000"/>
            </a:br>
            <a:r>
              <a:rPr b="1" lang="en-US" sz="4000" spc="-1" strike="noStrike">
                <a:solidFill>
                  <a:srgbClr val="4f81bd"/>
                </a:solidFill>
                <a:latin typeface="Calibri"/>
                <a:ea typeface="Calibri"/>
              </a:rPr>
              <a:t>Recognizing and Resolving Conflict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  <p:transition spd="med" advTm="1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8a44d"/>
                </a:solidFill>
                <a:latin typeface="Calibri"/>
                <a:ea typeface="Calibri"/>
              </a:rPr>
              <a:t>Understand why</a:t>
            </a:r>
            <a:r>
              <a:rPr b="1" i="1" lang="en-US" sz="3600" spc="-1" strike="noStrike">
                <a:solidFill>
                  <a:srgbClr val="88a44d"/>
                </a:solidFill>
                <a:latin typeface="Calibri"/>
                <a:ea typeface="Calibri"/>
              </a:rPr>
              <a:t> </a:t>
            </a:r>
            <a:r>
              <a:rPr b="1" lang="en-US" sz="3600" spc="-1" strike="noStrike">
                <a:solidFill>
                  <a:srgbClr val="88a44d"/>
                </a:solidFill>
                <a:latin typeface="Calibri"/>
                <a:ea typeface="Calibri"/>
              </a:rPr>
              <a:t>your views differ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597" name="Content Placeholder 5" descr="ladder of inference.jpg"/>
          <p:cNvPicPr/>
          <p:nvPr/>
        </p:nvPicPr>
        <p:blipFill>
          <a:blip r:embed="rId1"/>
          <a:stretch/>
        </p:blipFill>
        <p:spPr>
          <a:xfrm>
            <a:off x="914400" y="1828800"/>
            <a:ext cx="2286000" cy="4114800"/>
          </a:xfrm>
          <a:prstGeom prst="rect">
            <a:avLst/>
          </a:prstGeom>
          <a:ln w="0">
            <a:noFill/>
          </a:ln>
        </p:spPr>
      </p:pic>
      <p:sp>
        <p:nvSpPr>
          <p:cNvPr id="598" name="Slide Number Placeholder 6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3283-71DE-4247-BE61-C505207CE60C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962160" y="17524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(Read from bottom to top)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  <a:ea typeface="Calibri"/>
              </a:rPr>
              <a:t>I take action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  <a:ea typeface="Calibri"/>
              </a:rPr>
              <a:t>I adopt beliefs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  <a:ea typeface="Calibri"/>
              </a:rPr>
              <a:t>I draw conclusions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  <a:ea typeface="Calibri"/>
              </a:rPr>
              <a:t>I add meaning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  <a:ea typeface="Calibri"/>
              </a:rPr>
              <a:t>I select data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  <a:ea typeface="Calibri"/>
              </a:rPr>
              <a:t>Observable data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Clark, W. (October 17, 2005). People Whose Ideas Influence Organisational Work - Chris Argyris. In 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rganisations@Onepin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. Retrieved March 8, 2009, from http://www.onepine.info/pargy.htm</a:t>
            </a: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med" advTm="15000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4000" spc="-1" strike="noStrike">
                <a:solidFill>
                  <a:srgbClr val="88a44d"/>
                </a:solidFill>
                <a:latin typeface="Calibri"/>
                <a:ea typeface="Calibri"/>
              </a:rPr>
              <a:t>Name the issues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2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Identify topic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hat the parties view as important to addres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2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Use concise </a:t>
            </a: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neutral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2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void pronoun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2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Use </a:t>
            </a: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issues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o </a:t>
            </a: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create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he </a:t>
            </a: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Foundational Concepts for Understanding Conflict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02" name="Content Placeholder 4" descr="iStock unsorted baggage.jpg"/>
          <p:cNvPicPr/>
          <p:nvPr/>
        </p:nvPicPr>
        <p:blipFill>
          <a:blip r:embed="rId1"/>
          <a:stretch/>
        </p:blipFill>
        <p:spPr>
          <a:xfrm>
            <a:off x="5486400" y="1981080"/>
            <a:ext cx="3048120" cy="373392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0FA2-E9CC-4FBA-87D4-A620F7BA5156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8a44d"/>
                </a:solidFill>
                <a:latin typeface="Calibri"/>
                <a:ea typeface="Calibri"/>
              </a:rPr>
              <a:t>Step 3. Build understanding</a:t>
            </a:r>
            <a:endParaRPr b="0" lang="en-US" sz="4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>
              <a:spcBef>
                <a:spcPts val="2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Discus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one issue at a tim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3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Clarify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ssumption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3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Explore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interests and feeling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bid.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06" name="Content Placeholder 4" descr="iStock sorted baggage.jpg"/>
          <p:cNvPicPr/>
          <p:nvPr/>
        </p:nvPicPr>
        <p:blipFill>
          <a:blip r:embed="rId1"/>
          <a:stretch/>
        </p:blipFill>
        <p:spPr>
          <a:xfrm>
            <a:off x="5257800" y="190512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607" name="Slide Number Placeholder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E464-C850-497E-945F-84CB8DAD35D6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8a44d"/>
                </a:solidFill>
                <a:latin typeface="Calibri"/>
                <a:ea typeface="Calibri"/>
              </a:rPr>
              <a:t>Step 4. Agree on solutions</a:t>
            </a:r>
            <a:endParaRPr b="0" lang="en-US" sz="4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Reality tes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–      Is this doable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3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Durability tes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–  Is this durable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2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Interest tes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– Does this meet all parties’ interests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bid.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>
              <a:spcBef>
                <a:spcPts val="3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10" name="Content Placeholder 11" descr="iStock hands and puzzle pieces.jpg"/>
          <p:cNvPicPr/>
          <p:nvPr/>
        </p:nvPicPr>
        <p:blipFill>
          <a:blip r:embed="rId1"/>
          <a:stretch/>
        </p:blipFill>
        <p:spPr>
          <a:xfrm>
            <a:off x="5257800" y="1905120"/>
            <a:ext cx="3124080" cy="4114800"/>
          </a:xfrm>
          <a:prstGeom prst="rect">
            <a:avLst/>
          </a:prstGeom>
          <a:ln w="0">
            <a:noFill/>
          </a:ln>
        </p:spPr>
      </p:pic>
      <p:sp>
        <p:nvSpPr>
          <p:cNvPr id="611" name="Slide Number Placeholder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DE1C-B9F1-46CE-B0E4-3A58A7C520A8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8a44d"/>
                </a:solidFill>
                <a:latin typeface="Calibri"/>
                <a:ea typeface="Calibri"/>
              </a:rPr>
              <a:t>Step 5. Plan next steps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2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ointly create </a:t>
            </a: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action pla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3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What needs to happe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Who needs to do what?  By whe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How will interaction take place if problems occur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bid.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61720" indent="-26172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14" name="Content Placeholder 4" descr="iStock process map next steps.jpg"/>
          <p:cNvPicPr/>
          <p:nvPr/>
        </p:nvPicPr>
        <p:blipFill>
          <a:blip r:embed="rId1"/>
          <a:stretch/>
        </p:blipFill>
        <p:spPr>
          <a:xfrm>
            <a:off x="5105520" y="205740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615" name="Slide Number Placeholder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70A5-337B-4FAB-82DD-99C60D6E0DE2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Tools fo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Conflict Management</a:t>
            </a:r>
            <a:endParaRPr b="0" lang="en-US" sz="5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8" name="Slide Number Placeholder 4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847E-1051-4FE2-A84D-99D541D08993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Content Placeholder 8" descr="business tool kit.jpg"/>
          <p:cNvPicPr/>
          <p:nvPr/>
        </p:nvPicPr>
        <p:blipFill>
          <a:blip r:embed="rId1"/>
          <a:stretch/>
        </p:blipFill>
        <p:spPr>
          <a:xfrm>
            <a:off x="2743200" y="2819520"/>
            <a:ext cx="3657600" cy="3276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Calibri"/>
                <a:ea typeface="Calibri"/>
              </a:rPr>
              <a:t>That’s true </a:t>
            </a:r>
            <a:r>
              <a:rPr b="1" i="1" lang="en-US" sz="5400" spc="-1" strike="noStrike">
                <a:solidFill>
                  <a:srgbClr val="eeece1"/>
                </a:solidFill>
                <a:latin typeface="Calibri"/>
                <a:ea typeface="Calibri"/>
              </a:rPr>
              <a:t>but</a:t>
            </a:r>
            <a:r>
              <a:rPr b="1" lang="en-US" sz="5400" spc="-1" strike="noStrike">
                <a:solidFill>
                  <a:srgbClr val="eeece1"/>
                </a:solidFill>
                <a:latin typeface="Calibri"/>
                <a:ea typeface="Calibri"/>
              </a:rPr>
              <a:t>…</a:t>
            </a:r>
            <a:endParaRPr b="0" lang="en-US" sz="5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What doesn’t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work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CF5A-74D1-4C6D-9F17-2FD84F769B0F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2999880" y="609480"/>
            <a:ext cx="5867640" cy="42674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https://encrypted-tbn0.gstatic.com/images?q=tbn:ANd9GcTdCI9l9APhsnDqkTIq0Y6KrDZGI3txOYaSBveu43a3keDLTbr_"/>
          <p:cNvPicPr/>
          <p:nvPr/>
        </p:nvPicPr>
        <p:blipFill>
          <a:blip r:embed="rId2"/>
          <a:stretch/>
        </p:blipFill>
        <p:spPr>
          <a:xfrm>
            <a:off x="3048120" y="609480"/>
            <a:ext cx="5790960" cy="41911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Calibri"/>
                <a:ea typeface="Calibri"/>
              </a:rPr>
              <a:t>That’s true </a:t>
            </a:r>
            <a:r>
              <a:rPr b="1" i="1" lang="en-US" sz="4800" spc="-1" strike="noStrike">
                <a:solidFill>
                  <a:srgbClr val="eeece1"/>
                </a:solidFill>
                <a:latin typeface="Calibri"/>
                <a:ea typeface="Calibri"/>
              </a:rPr>
              <a:t>and</a:t>
            </a:r>
            <a:r>
              <a:rPr b="1" lang="en-US" sz="4800" spc="-1" strike="noStrike">
                <a:solidFill>
                  <a:srgbClr val="eeece1"/>
                </a:solidFill>
                <a:latin typeface="Calibri"/>
                <a:ea typeface="Calibri"/>
              </a:rPr>
              <a:t>…</a:t>
            </a:r>
            <a:endParaRPr b="0" lang="en-US" sz="48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What does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work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8736-2527-4FAF-A736-90BF801ABCDA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999880" y="609480"/>
            <a:ext cx="5867640" cy="4267440"/>
          </a:xfrm>
          <a:prstGeom prst="rect">
            <a:avLst/>
          </a:prstGeom>
          <a:ln w="0">
            <a:noFill/>
          </a:ln>
        </p:spPr>
      </p:pic>
      <p:sp>
        <p:nvSpPr>
          <p:cNvPr id="629" name="Picture Placeholder 2"/>
          <p:cNvSpPr/>
          <p:nvPr/>
        </p:nvSpPr>
        <p:spPr>
          <a:xfrm>
            <a:off x="2971800" y="685800"/>
            <a:ext cx="5867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Picture 2" descr="https://encrypted-tbn1.gstatic.com/images?q=tbn:ANd9GcQ-QpqGC2bsQa5UBp6E192ll7ZP1wY0yU4_XpxoW1XiPVx4hW_MRA"/>
          <p:cNvPicPr/>
          <p:nvPr/>
        </p:nvPicPr>
        <p:blipFill>
          <a:blip r:embed="rId2"/>
          <a:stretch/>
        </p:blipFill>
        <p:spPr>
          <a:xfrm>
            <a:off x="3048120" y="6094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Calibri"/>
                <a:ea typeface="Calibri"/>
              </a:rPr>
              <a:t>BLAME</a:t>
            </a:r>
            <a:endParaRPr b="0" lang="en-US" sz="54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32" name="Picture Placeholder 7" descr=""/>
          <p:cNvPicPr/>
          <p:nvPr/>
        </p:nvPicPr>
        <p:blipFill>
          <a:blip r:embed="rId1"/>
          <a:srcRect l="4123" t="0" r="4123" b="0"/>
          <a:stretch/>
        </p:blipFill>
        <p:spPr>
          <a:xfrm>
            <a:off x="3000240" y="609480"/>
            <a:ext cx="5867640" cy="426744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What doesn’t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work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E480-B80A-42C9-929F-3EDEB946AABB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Calibri"/>
                <a:ea typeface="Calibri"/>
              </a:rPr>
              <a:t>The “third story”</a:t>
            </a:r>
            <a:endParaRPr b="0" lang="en-US" sz="48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What does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work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2AE7-560F-4FC8-9C64-8F6863208FDE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Picture Placeholder 6" descr=""/>
          <p:cNvPicPr/>
          <p:nvPr/>
        </p:nvPicPr>
        <p:blipFill>
          <a:blip r:embed="rId1"/>
          <a:srcRect l="0" t="1512" r="0" b="1512"/>
          <a:stretch/>
        </p:blipFill>
        <p:spPr>
          <a:xfrm>
            <a:off x="3000240" y="609480"/>
            <a:ext cx="5867640" cy="4267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8a44d"/>
                </a:solidFill>
                <a:latin typeface="Calibri"/>
                <a:ea typeface="Calibri"/>
              </a:rPr>
              <a:t>Learning Objectives</a:t>
            </a:r>
            <a:endParaRPr b="0" lang="en-US" sz="4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23560" indent="-22356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Understand the fundamental concepts of conflict management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23560" indent="-22356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23560" indent="-22356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cquire specific tactical approaches to conflict situation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23560" indent="-22356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23560" indent="-22356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pply that understanding to more effectively assess and manage two-party and multi-party conflicts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23560" indent="-22356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23560" indent="-22356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23560" indent="-22356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23560" indent="-22356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23560" indent="-22356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23560" indent="-22356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289A-5FB8-4473-A7F3-7C072DF2AE76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Calibri"/>
                <a:ea typeface="Calibri"/>
              </a:rPr>
              <a:t>Contribution Mapping</a:t>
            </a:r>
            <a:endParaRPr b="0" lang="en-US" sz="48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40" name="Picture Placeholder 5" descr=""/>
          <p:cNvPicPr/>
          <p:nvPr/>
        </p:nvPicPr>
        <p:blipFill>
          <a:blip r:embed="rId1"/>
          <a:srcRect l="4377" t="0" r="4377" b="0"/>
          <a:stretch/>
        </p:blipFill>
        <p:spPr>
          <a:xfrm>
            <a:off x="3000240" y="609480"/>
            <a:ext cx="5867640" cy="426744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What does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work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DC58-7FC9-4B82-820A-809ED374014A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Calibri"/>
                <a:ea typeface="Calibri"/>
              </a:rPr>
              <a:t>You get the picture…</a:t>
            </a:r>
            <a:endParaRPr b="0" lang="en-US" sz="48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What doesn’t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work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ECA6-2120-49B9-8C91-08A95E8AE9C5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2999880" y="609480"/>
            <a:ext cx="5867640" cy="4267440"/>
          </a:xfrm>
          <a:prstGeom prst="rect">
            <a:avLst/>
          </a:prstGeom>
          <a:ln w="0">
            <a:noFill/>
          </a:ln>
        </p:spPr>
      </p:pic>
      <p:sp>
        <p:nvSpPr>
          <p:cNvPr id="647" name="Picture Placeholder 7"/>
          <p:cNvSpPr/>
          <p:nvPr/>
        </p:nvSpPr>
        <p:spPr>
          <a:xfrm>
            <a:off x="2971800" y="609480"/>
            <a:ext cx="5867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2" descr="http://corhinnshow.com/wp-content/uploads/2012/08/SILENT-TREATMENT1.jpg"/>
          <p:cNvPicPr/>
          <p:nvPr/>
        </p:nvPicPr>
        <p:blipFill>
          <a:blip r:embed="rId2"/>
          <a:stretch/>
        </p:blipFill>
        <p:spPr>
          <a:xfrm>
            <a:off x="2971800" y="533520"/>
            <a:ext cx="5943600" cy="4419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999880" y="4876920"/>
            <a:ext cx="58676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Calibri"/>
                <a:ea typeface="Calibri"/>
              </a:rPr>
              <a:t>Match and lower,</a:t>
            </a:r>
            <a:br>
              <a:rPr sz="4800"/>
            </a:br>
            <a:r>
              <a:rPr b="1" lang="en-US" sz="4800" spc="-1" strike="noStrike">
                <a:solidFill>
                  <a:srgbClr val="eeece1"/>
                </a:solidFill>
                <a:latin typeface="Calibri"/>
                <a:ea typeface="Calibri"/>
              </a:rPr>
              <a:t>match and raise</a:t>
            </a:r>
            <a:endParaRPr b="0" lang="en-US" sz="48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What does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work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9BC3-D7C2-4279-BCD4-F10F0498FB7A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3048120" y="698400"/>
            <a:ext cx="5867280" cy="4267440"/>
          </a:xfrm>
          <a:prstGeom prst="rect">
            <a:avLst/>
          </a:prstGeom>
          <a:ln w="0">
            <a:noFill/>
          </a:ln>
        </p:spPr>
      </p:pic>
      <p:sp>
        <p:nvSpPr>
          <p:cNvPr id="653" name="Picture Placeholder 2"/>
          <p:cNvSpPr/>
          <p:nvPr/>
        </p:nvSpPr>
        <p:spPr>
          <a:xfrm>
            <a:off x="2971800" y="609480"/>
            <a:ext cx="5867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6" descr="http://www.trickswithchips.com/s1.jpg"/>
          <p:cNvPicPr/>
          <p:nvPr/>
        </p:nvPicPr>
        <p:blipFill>
          <a:blip r:embed="rId2"/>
          <a:stretch/>
        </p:blipFill>
        <p:spPr>
          <a:xfrm>
            <a:off x="3048120" y="685800"/>
            <a:ext cx="5867280" cy="42670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Faced with the choice between changing one’s mind and proving that there is no need to do so, almost everybody gets busy on the proof.”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hn Kenneth Galbraith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  <p:transition spd="med" advTm="15000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Sources an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Recommended Reading</a:t>
            </a:r>
            <a:endParaRPr b="0" lang="en-US" sz="4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8628-41AD-40E4-A020-5661C10CF3D9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Content Placeholder 8" descr="journals.jpg"/>
          <p:cNvPicPr/>
          <p:nvPr/>
        </p:nvPicPr>
        <p:blipFill>
          <a:blip r:embed="rId1"/>
          <a:stretch/>
        </p:blipFill>
        <p:spPr>
          <a:xfrm>
            <a:off x="3124080" y="2895480"/>
            <a:ext cx="2743200" cy="32004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8a44d"/>
                </a:solidFill>
                <a:latin typeface="Calibri"/>
                <a:ea typeface="Calibri"/>
              </a:rPr>
              <a:t>Sources</a:t>
            </a:r>
            <a:endParaRPr b="0" lang="en-US" sz="4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mason, A.C.,  Thompson,  K.R., Hochwarter, W.A., &amp; Harrison, A.W. (1995, Autumn).  “Conflict: An Important Dimension in Successful Management Teams.”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rganizational Dynamics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4(2), 20-35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lark, W. (October 17, 2005). People Whose Ideas Influence Organisational Work - Chris Argyris. In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rganisations@Onepin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. Retrieved March 8, 2009, from http://www.onepine.info/pargy.htm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90D8-C9B9-4FE5-9190-12B5E79E4B5C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Sources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Garmston, R.J. (Summer 2005). “Group Wise: How to turn conflict into an effective learning process.”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Journal of Staff Developmen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, 26(3), 65-66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ediation Services.  (2003).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Foundational concepts for understanding conflict.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innipeg, MB, Canada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7661-7B12-4F99-B0BB-D72F2C0262BA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8a44d"/>
                </a:solidFill>
                <a:latin typeface="Calibri"/>
                <a:ea typeface="Calibri"/>
              </a:rPr>
              <a:t>Recommended Reading </a:t>
            </a:r>
            <a:endParaRPr b="0" lang="en-US" sz="4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1320" y="1828800"/>
            <a:ext cx="8504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ger, J. A. (1998, May-June). The Necessary Art of Persuasion.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arvard Business Review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, pp. 84-95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isenhardt, K., Kahwajy, L., &amp; Bourgeois, L. J. (1997, July-August). How Management Teams Can Have a Good Fight.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arvard Business Review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, pp. 77-85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obinson, R. J. (1997, February 6). Errors in Social Judgment: Implications for Negotiation and Conflict Resolution.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arvard Business School Publishing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, Case Note 897103, pp. 1-7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89CA-0BA8-41D1-8716-AD71B6B15B90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8a44d"/>
                </a:solidFill>
                <a:latin typeface="Calibri"/>
                <a:ea typeface="Calibri"/>
              </a:rPr>
              <a:t>Recommended Reading </a:t>
            </a:r>
            <a:endParaRPr b="0" lang="en-US" sz="4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828800"/>
            <a:ext cx="8504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ussman, L. (1999, January 15). How to Frame a Message: The Art of Persuasion and Negotiation.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usiness Horizon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, pp. 2-6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annen, D. (1995, September-October). The Power of Talk: Who Gets Heard and Why.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arvard Business Review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, pp. 138-148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3887-1673-4E55-A5AA-D09D41A3B37E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8a44d"/>
                </a:solidFill>
                <a:latin typeface="Calibri"/>
                <a:ea typeface="Calibri"/>
              </a:rPr>
              <a:t>CONFLICT  HAPPENS</a:t>
            </a:r>
            <a:endParaRPr b="0" lang="en-US" sz="4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onflict is…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 normal,  inescapable part of lif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 periodic occurrence in any relationship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n opportunity to understand opposing preferences and valu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42A6-CB09-4E44-9E64-F782BC9F9511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Content Placeholder 5" descr="iStock energy image.jpg"/>
          <p:cNvPicPr/>
          <p:nvPr/>
        </p:nvPicPr>
        <p:blipFill>
          <a:blip r:embed="rId1"/>
          <a:stretch/>
        </p:blipFill>
        <p:spPr>
          <a:xfrm>
            <a:off x="4862520" y="1371600"/>
            <a:ext cx="3914640" cy="4681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8a44d"/>
                </a:solidFill>
                <a:latin typeface="Calibri"/>
                <a:ea typeface="Calibri"/>
              </a:rPr>
              <a:t>How can we manage the energy of conflict?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573" name="Content Placeholder 5" descr="toxic conflict.jpg"/>
          <p:cNvPicPr/>
          <p:nvPr/>
        </p:nvPicPr>
        <p:blipFill>
          <a:blip r:embed="rId1"/>
          <a:stretch/>
        </p:blipFill>
        <p:spPr>
          <a:xfrm>
            <a:off x="990720" y="2057400"/>
            <a:ext cx="2895480" cy="3657600"/>
          </a:xfrm>
          <a:prstGeom prst="rect">
            <a:avLst/>
          </a:prstGeom>
          <a:ln w="0">
            <a:noFill/>
          </a:ln>
        </p:spPr>
      </p:pic>
      <p:pic>
        <p:nvPicPr>
          <p:cNvPr id="574" name="Content Placeholder 6" descr="idea at fingertip.jpg"/>
          <p:cNvPicPr/>
          <p:nvPr/>
        </p:nvPicPr>
        <p:blipFill>
          <a:blip r:embed="rId2"/>
          <a:stretch/>
        </p:blipFill>
        <p:spPr>
          <a:xfrm>
            <a:off x="5257800" y="2057400"/>
            <a:ext cx="2971800" cy="3657600"/>
          </a:xfrm>
          <a:prstGeom prst="rect">
            <a:avLst/>
          </a:prstGeom>
          <a:ln w="0">
            <a:noFill/>
          </a:ln>
        </p:spPr>
      </p:pic>
      <p:sp>
        <p:nvSpPr>
          <p:cNvPr id="575" name="Slide Number Placeholder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EC89-3308-4C95-91D7-651FCDD92293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8a44d"/>
                </a:solidFill>
                <a:latin typeface="Calibri"/>
                <a:ea typeface="Calibri"/>
              </a:rPr>
              <a:t>Use cognitive conflict</a:t>
            </a:r>
            <a:endParaRPr b="0" lang="en-US" sz="4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isagreement about ideas and approache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ssue focused, not personal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haracteristic of high performing group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mason, A.C.,  Thompson,  K.R., Hochwarter, W.A., &amp; Harrison, A.W. (1995, Autumn).  “Conflict: An Important Dimension in Successful Management Teams.” </a:t>
            </a: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Organizational Dynamics,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24(2), 22-23.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78" name="Content Placeholder 5" descr="group persuasion.jpg"/>
          <p:cNvPicPr/>
          <p:nvPr/>
        </p:nvPicPr>
        <p:blipFill>
          <a:blip r:embed="rId1"/>
          <a:stretch/>
        </p:blipFill>
        <p:spPr>
          <a:xfrm>
            <a:off x="5486400" y="2057400"/>
            <a:ext cx="2743200" cy="3505320"/>
          </a:xfrm>
          <a:prstGeom prst="rect">
            <a:avLst/>
          </a:prstGeom>
          <a:ln w="0">
            <a:noFill/>
          </a:ln>
        </p:spPr>
      </p:pic>
      <p:sp>
        <p:nvSpPr>
          <p:cNvPr id="579" name="Slide Number Placeholder 6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CBF5-52DD-47D3-B215-45868840A155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Calibri"/>
              </a:rPr>
              <a:t>Avoid</a:t>
            </a:r>
            <a:r>
              <a:rPr b="1" lang="en-US" sz="4400" spc="-1" strike="noStrike">
                <a:solidFill>
                  <a:srgbClr val="88a44d"/>
                </a:solidFill>
                <a:latin typeface="Calibri"/>
                <a:ea typeface="Calibri"/>
              </a:rPr>
              <a:t> affective conflict</a:t>
            </a:r>
            <a:endParaRPr b="0" lang="en-US" sz="4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1" name="Slide Number Placeholder 2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DB51-9E6A-4C82-A68D-64C7A18FEFD9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Content Placeholder 7" descr="Business trio arguing.jpg"/>
          <p:cNvPicPr/>
          <p:nvPr/>
        </p:nvPicPr>
        <p:blipFill>
          <a:blip r:embed="rId1"/>
          <a:stretch/>
        </p:blipFill>
        <p:spPr>
          <a:xfrm>
            <a:off x="457200" y="1905120"/>
            <a:ext cx="3809880" cy="31478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Personal antagonism fueled by differences of  opin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Destructive to group performance and cohes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bid., 24.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med" advTm="15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8a44d"/>
                </a:solidFill>
                <a:latin typeface="Calibri"/>
                <a:ea typeface="Calibri"/>
              </a:rPr>
              <a:t>How can we keep conflict cognitive? 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507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Make the approach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914400" indent="-5079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914400" indent="-507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hare perspectiv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914400" indent="-5079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914400" indent="-507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Build understanding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914400" indent="-5079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914400" indent="-507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Agree on solu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914400" indent="-5079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914400" indent="-507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lan next step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914400" indent="-507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914400" indent="-507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914400" indent="-507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diation Services.  (2003). </a:t>
            </a: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oundational concepts for understanding conflict.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Winnipeg, MB, Canada</a:t>
            </a: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6E4B-5312-47AE-BF48-18721FC26564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8a44d"/>
                </a:solidFill>
                <a:latin typeface="Calibri"/>
                <a:ea typeface="Calibri"/>
              </a:rPr>
              <a:t> </a:t>
            </a:r>
            <a:r>
              <a:rPr b="1" lang="en-US" sz="4400" spc="-1" strike="noStrike">
                <a:solidFill>
                  <a:srgbClr val="88a44d"/>
                </a:solidFill>
                <a:latin typeface="Calibri"/>
                <a:ea typeface="Calibri"/>
              </a:rPr>
              <a:t>Step 1. Make the approach</a:t>
            </a:r>
            <a:endParaRPr b="0" lang="en-US" sz="4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Reflec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before you begi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Invit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the other party to a conversa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Be clear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bout your intention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State your goal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- a positive resolu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Ibid.</a:t>
            </a: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1DA9-26D3-45DF-8649-FC782A80D737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Content Placeholder 5" descr="iStock_000004191128XSmall.jpg"/>
          <p:cNvPicPr/>
          <p:nvPr/>
        </p:nvPicPr>
        <p:blipFill>
          <a:blip r:embed="rId1"/>
          <a:stretch/>
        </p:blipFill>
        <p:spPr>
          <a:xfrm>
            <a:off x="5105520" y="1981080"/>
            <a:ext cx="3352680" cy="35053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8a44d"/>
                </a:solidFill>
                <a:latin typeface="Calibri"/>
                <a:ea typeface="Calibri"/>
              </a:rPr>
              <a:t>Step 2. Share perspectives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Ask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for the other person’s perspectiv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2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Paraphrase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what you hear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2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Acknowledge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your contribu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2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Describe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your perspectiv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59200" indent="-2592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bid.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519A-9FE3-481E-A93F-71C4CC4AE78B}" type="slidenum">
              <a:rPr b="0" lang="en-US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Content Placeholder 5" descr="group persuasion.jpg"/>
          <p:cNvPicPr/>
          <p:nvPr/>
        </p:nvPicPr>
        <p:blipFill>
          <a:blip r:embed="rId1"/>
          <a:stretch/>
        </p:blipFill>
        <p:spPr>
          <a:xfrm>
            <a:off x="5334120" y="1981080"/>
            <a:ext cx="3124080" cy="37339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2 women reviewing data.jpg"/>
          <p:cNvPicPr/>
          <p:nvPr/>
        </p:nvPicPr>
        <p:blipFill>
          <a:blip r:embed="rId2"/>
          <a:stretch/>
        </p:blipFill>
        <p:spPr>
          <a:xfrm>
            <a:off x="5257800" y="1981080"/>
            <a:ext cx="3200400" cy="3733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21:35:59Z</dcterms:created>
  <dc:creator/>
  <dc:description/>
  <dc:language>en-US</dc:language>
  <cp:lastModifiedBy>Bright</cp:lastModifiedBy>
  <dcterms:modified xsi:type="dcterms:W3CDTF">2013-08-22T12:39:01Z</dcterms:modified>
  <cp:revision>299</cp:revision>
  <dc:subject/>
  <dc:title>Slide 1</dc:title>
</cp:coreProperties>
</file>